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F0F-9282-44F5-B3F4-469ED466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9F52-4D66-4D28-A206-C8FCF992C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jjjjjjjjjjjjjjjjjjj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CAD-6153-4E26-B6A5-C732C0EE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08F-1F3D-40C2-A2CC-86C282C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FD7-601C-4D32-9CB0-6EC673C9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CA1-F97B-4264-85F8-86CDCE21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9C9-EE0C-42DA-AB1A-8E533009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9E8B-F1DF-4645-95E2-4053F510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A21D-765F-473E-88C4-54EC342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288E-76E8-4F62-A361-62D5135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66EE-57D7-432C-9285-0669FFB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58E2-C599-46D4-98DF-A4D4CF5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291D-56F5-4BAD-A164-5567D74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939-2872-403B-9348-7446BE60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402D-0123-4B48-9733-04085FC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5051-6AB9-4588-8453-16B5305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7D5-1490-43F3-95B2-477FC76B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259-F525-44D1-80B1-67C98962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E5C4-C44D-4D05-8A68-A894FF7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8C8-72CD-463F-9E81-BF0DA1AE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957-670D-4540-A7D0-15B9F6EA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C47-F34F-4005-A2B6-EE8D4AD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1D9-D3CE-4493-98DE-7F67B1EC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A82-7B46-4DE7-B496-A837B35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457-392F-4FA1-969E-2DE9C7A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AFB-0665-40E6-9DD9-21EF9A9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8776-4D69-4885-B1A6-5FD7D632E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3AE-4395-44D2-AD82-22EF0DB4D0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Reform and Renewal in the Christian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-129960"/>
            <a:ext cx="79246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ther later denied the authority of the pope and was excommunicated and declared an outlaw by Charles V at Worms in 1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while, Ulrich Zwingli introduced the reformation in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 believed in the supremacy of Scripture, and was opposed  to indulgences, the Mass, Monasticism, and clerical celib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testant Though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basic theological tenets of Protestantism were set forth in the Confession of Augsburg, in which Luther provided new answers to basic the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II. The Social Impact of Luther’s Belief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-5364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380880"/>
            <a:ext cx="7543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uther’s idea attracted many preachers, and they became Protestant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easants cited Luther’s Theology as part of their demands for economic re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uther did not support the peasants’ revolt; he believed in obedience to civil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despread peasant revolts in 1525 were brutally crushed, but some land was returned to commo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Luther’s greatest weapon was his mastery of the language, and his words were spread by the advent of printing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Zwingli and Calvin were greatly influenced by his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he publication of Luther’s German translation of the new Testament in 1523 democratized 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Catechisms and hymns enabled people, especially the young, to remember central points of doct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Luther’s Impact on wome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Luther gave dignity to domestic work, stressed the idea of marriage and the Christian home, ended confession, and encouraged education for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uther held enlightened views on sex and marriage, although he claimed that women should be no more than efficient w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V. Germany and the Protestant Reformatio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The Holy Roman Empire in the 14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&amp; 15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Centurie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Golden Bull of 1356 gave each of the seven electors virtual sovereig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ocalism and chronic disorder allowed the nobility to strengthen their territories and reduce the authority of the empe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. The Reformation in Germany resulted in a politically weake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The rise of the Habsburg dynasty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Habsburgs gave unity to much of Europe, especially with the marriage of Maximilian I of Austria and Mary of Burgundy in 14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Charles V, their grandson, inherited much of Europe and was committed to the idea of its religious and political unity.(Part of France, Belgium, Austria, Spain, Holy Roman Emp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political impact of Luther’s belief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Protestant Reformation stirred nationalistic feeling in Germany against the wealthy Italian pap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uther’s appeal to patriotism earned him the support of the princes, who used religion as a means of gaining more political independence and preventing the flow of German money to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Was a Catholic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holic” = “Universal” with acceptance of the Pope in Rome as supreme authority of the Church (as opposed to Orthodox Chu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ope is representative of Christ on earth and has a direct link to G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ston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s – the miracle that happened with the transubstantiation of the bread and wine because of pri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4th Lateran Council (1215) : confession/communion at least once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aity was supposed to know the Lord’s Prayer, Apostle’s Creed and Hail 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holic lives ordered by the sacraments of the church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ptism; communion; confirmation, penance, marriage, ordination; last r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gion of the imag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98640"/>
            <a:ext cx="79246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45720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Protestant movement proved to be a political disaster for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dynastic Hapsburg-Valois wars advanced the cause of Protestantism and promoted the political fragmentation of Germany (Catholic of France supporting Lutheran princes against fellow Catholic, Charles V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By the Peace of Augsburg of 1555, Charles recognized Lutheranism as a legal religion and each prince was permitted to determine the religion of his territo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ius regio, eius reli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V. The Growth of the Protestant Reformation  </a:t>
            </a:r>
            <a:br>
              <a:rPr sz="3600"/>
            </a:b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1. 1555 - much of northern Europe had broken with the Roman Catholic church    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Calvinism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vin believed that God selects certain people to do his work and that he was selected to reform the chur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Under John Calvin, Geneva became “ a city that was a church” in which the state was subordinate to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alvin’s central ideas, express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Institutes of Christian Religion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e his belief in the omnipotence of God, the insignificance of humanity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9864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ere living and intolerance of dissenters characterized Calvin’s Gene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ichael Servetus was burned at the stake for denying the Christian dogma of the Trinity and rejecting child bap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alvinists did not view women much differently than Catholics; women were to be obedient to their husbands- and unmarried women were upsetting the natural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9864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The City of Geneva was model for international Protestantism, and Calvinism, with it’s emphasis on the work ethic, became the most dynamic and influential form of Protestan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Calvin served as the model for the Presbyterian church in Scotland, the Huguenot church in France, and the Puritan churches in England and New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B. The Anabaptist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testant sect believed in adult baptism, revelation, religious tolerance, pacifism, and separation of church an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beliefs and practices were too radical for the times, and they were bitterly pers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ater, the Quakers, Puritans, and the Congregationalists would trace their origins to the Anabap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English Reformatio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Lollards, although driven underground in th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, survived and stress the idea of a direct relationship between the individual and G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English humanist William Tyndale began printing an English translation of the New testament in 15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wealth and corruption of the clergy caused resen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Henry VIII desired a divorce from his queen, Catherine, daughter of Ferdinand and Isabella, so he could marry Anne Boley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52240" y="3675240"/>
            <a:ext cx="535644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786950"/>
              </a:solidFill>
              <a:latin typeface="Times New Roman"/>
            </a:endParaRPr>
          </a:p>
        </p:txBody>
      </p:sp>
      <p:pic>
        <p:nvPicPr>
          <p:cNvPr id="96" name="Picture 4" descr="Crucifixion1516"/>
          <p:cNvPicPr/>
          <p:nvPr/>
        </p:nvPicPr>
        <p:blipFill>
          <a:blip r:embed="rId1"/>
          <a:stretch/>
        </p:blipFill>
        <p:spPr>
          <a:xfrm>
            <a:off x="1022400" y="0"/>
            <a:ext cx="67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ope Clement VII (who didn’t wish to admit papal error) refused to annual Henry’s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Archbishop Cranmer, however engineered the div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The results was the nationalization of the English church and a break with Rome as Henry used Parliament to legalize the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457200"/>
            <a:ext cx="7391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enry needed money so he dissolved the monasteries and confiscated their lands, but this did not lead to more equal land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Some traditional Catholic practices, such as confession and the doctrine of transubstantiation, we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Nationalization of the church led to changes in governmental administration, resulting in greater efficiency an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The Supremacy Act (1534) declared the king the supreme head of the Church of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99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Henry had six wives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. After Catherine he married Anne Boleyn, she failed to produce a make heir. Henry had her beheaded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. Next he married Jane Seymour, she gave Henry the desired son Edward, but died in childbirth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3. Henry went on to have three more wive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136800"/>
            <a:ext cx="76201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Under Edward VI, Henry’s heir, England shifted closer to Protestant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Mary Tudor attempted to bring Catholicism back to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Under Elizabeth I a religious settlement requiring outward conformity to the Church of England was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. The Establishment of the Church of Scotlan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land was an extreme case of clerical abuse and corru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nox brought Calvinism to Scotland from Gen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byterian church became the national church of Scot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E. Protestantism in Ireland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glish ruling class in Ireland adopted the new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Irish people defiantly remained Cath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F. Lutheranism in Sweden, Norway, and Denmark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archy led the religious re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was Lutheran state chur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VI. The Catholic &amp; Counter-Reformation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A. There were two types of reform within the Catholic Church in the 16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and 17</a:t>
            </a:r>
            <a:r>
              <a:rPr b="0" lang="en-US" sz="36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tholic reformation sought to stimulate a new religious fer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nter-Reformation started in the 1540’s as a reaction to Protestantism and progressed simultaneously with the Catholic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. The slowness of institutional refor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 often the popes were preoccupied with the politics or sensual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es resisted calls for formation of a general council because it would limit their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LastJudgementorDoom"/>
          <p:cNvPicPr/>
          <p:nvPr/>
        </p:nvPicPr>
        <p:blipFill>
          <a:blip r:embed="rId1"/>
          <a:stretch/>
        </p:blipFill>
        <p:spPr>
          <a:xfrm>
            <a:off x="914400" y="306360"/>
            <a:ext cx="64771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. The Council of Tren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Pope Paul III called the Council of Trent (1545-156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An attempt to reconcile with the Protestants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International politics hindered the theological 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-168480"/>
            <a:ext cx="73152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22860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onetheless, the principle of papal authority was maintained, considerable reform was undertaken, and the spiritual renewal of the church was be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ridentine decrees forbade the sale of indulgences and outlawed pluralism and sim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ttempts were made to curb clerical immorality and to encourag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reat emphasis was placed on pr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. New Religious orders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Ursuline order of nuns gained enormous prestige for the education of w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Ursulines sought to re-Christianize society by training future wives and m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The Ursulines spread to France and 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212400"/>
            <a:ext cx="73915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ociety of Jesus played a strong international role in resisting Protestant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Obedience was the foundation of the Jesuit tra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ith their schools, political influence, and missionary work, they brought many people into the Catholic f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E. The Sacred Congregation of the Holy Offi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roup established by Pope Paul III in 1542, carried out the Roman Inquisition as a way to combat he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d the power to arrest, imprison, and execute, but its influence was confined to papal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. The Condition of the Church 1400-1517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The declining prestige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Babylonian Captivity and The Great Schism damaged the church’s presti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Secular humanists satirized and denounced moral corruption within the church.(Erasmus- called for reform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Praise of Fo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Chaucer’s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terbury T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occaccio’s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ecam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B. Signs of Disorder in the early sixteenth century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parish clergy brought spiritual help to the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229320"/>
            <a:ext cx="7467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Critics of the church wanted moral and administrative reform in thre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rical immorality (neglect of celibacy, drunkenness, gambling) created a scan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ck of education of the clergy and law standards of ordination were condemned by Christian huma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enteeism, pluralism, (holding of several offices) and wealth of the greater clergy bore little resemblance to Christian gos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he prelates and popes of the period, often members of the nobility, lived in splendor and moral corruption(Christian church possessed a large proportion of the wealth of the countries of Europ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Members of nobility occupied the highest church pos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C. Signs of vitality in the late 15</a:t>
            </a:r>
            <a:r>
              <a:rPr b="0" lang="en-US" sz="32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Century and early 16</a:t>
            </a:r>
            <a:r>
              <a:rPr b="0" lang="en-US" sz="3200" spc="-1" strike="noStrike" baseline="30000">
                <a:solidFill>
                  <a:srgbClr val="9966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Europe remained deeply religious, and calls for reform testify to the spiritual vitality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Protestants"/>
          <p:cNvPicPr/>
          <p:nvPr/>
        </p:nvPicPr>
        <p:blipFill>
          <a:blip r:embed="rId1"/>
          <a:stretch/>
        </p:blipFill>
        <p:spPr>
          <a:xfrm>
            <a:off x="228600" y="243000"/>
            <a:ext cx="86104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167400"/>
            <a:ext cx="75438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7920" y="76176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ew organizations were formed to educate and minister to the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he brethren of the Common Life in Holland lived simply and sought to make religion a personal, inner experience based on following the scrip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The Imitation of Christ by Thomas a Kempis urged Christians to seek perfection in a simple wa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Pope Julius II summoned an ecumenical(universal) council on reform in the church called the Lateran Council(1512-152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II. Martin Luther &amp; the Birth of Protestantism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tin Lu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95 Theses attacking indulgences, 15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5 Theses - German translation printed "within 15 days had been seen in every part of the country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ween 1522 and 1546: 430 editions (whole or partial) of his Biblical translations appea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17-1520: :Luther wrote c 30 tracts that were printed so that some 300,000 copies were available throughout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lish impact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lli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wing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Luther"/>
          <p:cNvPicPr/>
          <p:nvPr/>
        </p:nvPicPr>
        <p:blipFill>
          <a:blip r:embed="rId1"/>
          <a:stretch/>
        </p:blipFill>
        <p:spPr>
          <a:xfrm>
            <a:off x="5067360" y="152280"/>
            <a:ext cx="4076640" cy="65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Lutheranism by 1521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rremediable sinfulness of all peop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th not works is how you are saved (so no monasticism, no veneration of saints or their relic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belief in purga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7 sacraments to 2 (only baptism and commun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bstantiation not transubstantiation; it is the faith of the recipient not the priestly intervention that makes the sacra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mediator is necessary, though still accepts existence of pri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ial of papal infall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reases distinctions between laity and clergy –our baptism consecrates us all without exception and makes us responsible for our fa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ponsibility of every Christian to know the B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rtin Luth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of a mill wo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become a law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chi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olic’s believed in faith and deeds were the way into sal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4:32:40Z</dcterms:created>
  <dc:creator>Donovan</dc:creator>
  <dc:description/>
  <dc:language>en-US</dc:language>
  <cp:lastModifiedBy>Kuenzi</cp:lastModifiedBy>
  <dcterms:modified xsi:type="dcterms:W3CDTF">2012-10-11T01:17:11Z</dcterms:modified>
  <cp:revision>105</cp:revision>
  <dc:subject/>
  <dc:title>Chapter 14</dc:title>
</cp:coreProperties>
</file>